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8444-0118-4B66-9FB5-D4D324A57DD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содержание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тегориальный аппарат теории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Цели теории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волюция управленческой мы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и содержание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Категориальный аппарат теории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Цели теории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Эволюция управленческой мыс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управления – это логическая схема управленческой деятельности, предполагающая взаимосвязанное понимание целей, ориентиров, а также средств и способов их достижения.  Это еще и умение видеть, распознавать, понимать, оценивать и учитывать зависимости, которые и раскрывают содержание проблем, и подсказывают пути их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ы, характеризующие содержание методологии управления: подходы, парадигмы, проблемы, приоритеты, ориентиры, критерии, альтернативы, процедуры выбора, средства и методы управления, а также ограни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ология управления – это логическая схема управленческой деятельности, предполагающая взаимосвязанное понимание целей, ориентиров, а также средств и способов их достижения.  Это еще и умение видеть, распознавать, понимать, оценивать и учитывать зависимости, которые и раскрывают содержание проблем, и подсказывают пути их реш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оненты, характеризующие содержание методологии управления: подходы, парадигмы, проблемы, приоритеты, ориентиры, критерии, альтернативы, процедуры выбора, средства и методы управления, а также огранич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дигма (греч. Paradeigma – пример, образец) – исходная концептуальная схема, система понятий, отражающая осмысление существенных черт действительности, модель постановки проблем и их решения, выбора соответствующих методов, господствующая в научном сообществе в течение определенного исторического периода и знаменующая собой определенный этап в развитии теории. .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й рационализм Ф. Тейлора Функциональная дифференциация А. Файоля М. Вебера и др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парадигме управления превалирует роль человеческой личности с учетом процессов глобализации и с акцентом на управление знаниями, на сетевые, партнерские принципы взаимо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адигма (греч. Paradeigma – пример, образец) – исходная концептуальная схема, система понятий, отражающая осмысление существенных черт действительности, модель постановки проблем и их решения, выбора соответствующих методов, господствующая в научном сообществе в течение определенного исторического периода и знаменующая собой определенный этап в развитии теории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ческий рационализм Ф. Тейлора Функциональная дифференциация А. Файоля М. Вебера и др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парадигме управления превалирует роль человеческой личности с учетом процессов глобализации и с акцентом на управление знаниями, на сетевые, партнерские принципы взаимодейств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аиболее важных аспектов управленческих отношений, возникающих в рамках управленческих взаимо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основных тенденций развития социальны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ование развития управленческих отношений в социальных общностях и организ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рекомендаций по совершенствованию методов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наиболее важных аспектов управленческих отношений, возникающих в рамках управленческих взаимодейств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ление основных тенденций развития социальных процесс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нозирование развития управленческих отношений в социальных общностях и организация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рекомендаций по совершенствованию методов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о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ст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управления – это совокупность управленческих действий, предпринимаемых руководителями при выполнении управленческих функций в организаци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управл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навате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оч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лад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ност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те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управления – это совокупность управленческих действий, предпринимаемых руководителями при выполнении управленческих функций в организации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– это способы выполнения перечисленных выше функций.  Они различаются по содержанию: административные, (организационно-распорядительные), экономические и социально-психологически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о разграничить каждый метод не представляется возможным: они взаимно проникают друг в друга и имеют немало общих черт.  В то же время присущие им различия в способах воздействия на объекты управления позволяют рассматривать их в отд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 управления – это способы выполнения перечисленных выше функций.  Они различаются по содержанию: административные, (организационно-распорядительные), экономические и социально-психологические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тко разграничить каждый метод не представляется возможным: они взаимно проникают друг в друга и имеют немало общих черт.  В то же время присущие им различия в способах воздействия на объекты управления позволяют рассматривать их в отд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одели управления организ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одели управления организ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есть одновременно элемент и функция организованных систем различной природы (биологических, социальных, технических и др.).  Управление присуще любому обществу или его отдельному элементу (организации, коллективу, подразделению, городу, региону).  Необходимость управления вытекает из системной природы объ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закономерности выявлены кибернетикой, наукой об общих принципах и методах управления сложными системами в природе, технике и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критерии управления – рациональность и целесообраз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щенко Е.В. и др. Теория управления.  М., 1997.  С. 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есть одновременно элемент и функция организованных систем различной природы (биологических, социальных, технических и др.).  Управление присуще любому обществу или его отдельному элементу (организации, коллективу, подразделению, городу, региону).  Необходимость управления вытекает из системной природы объ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закономерности выявлены кибернетикой, наукой об общих принципах и методах управления сложными системами в природе, технике и обществ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ые критерии управления – рациональность и целесообраз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ущенко Е.В. и др. Теория управления.  М., 1997.  С. 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- это внутреннее свойство общественной системы, основанное на разделении труда, которое является результатом удовлетворения потребности  обмена продуктами материальной и духов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с К. // Маркс К., Энгельс Ф.  Соч. 2-е изд.  Т.23.  1960. С.  9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- функция организованных систем различной природы (биологических, социальных, технических), обеспечивающая сохранение их определенной структуры, поддержание режима активности, реализацию программы, цели деятельно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щенко Е.В., Захарова Е.В., Тихонравов Ю.В.  Теория управления: Учебный курс.  М., 1997. С. 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- это внутреннее свойство общественной системы, основанное на разделении труда, которое является результатом удовлетворения потребности  обмена продуктами материальной и духов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ркс К. // Маркс К., Энгельс Ф.  Соч. 2-е изд.  Т.23.  1960. С.  9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- функция организованных систем различной природы (биологических, социальных, технических), обеспечивающая сохранение их определенной структуры, поддержание режима активности, реализацию программы, цели деятельност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ущенко Е.В., Захарова Е.В., Тихонравов Ю.В.  Теория управления: Учебный курс.  М., 1997. С. 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это наука об эффективном управлении предприятием; она включает в себя учение о принципах организации предприятия (юридическая часть), о стратегии его развития (идеологическая часть), о подборе персонала (социологическая часть) и способах оптимизации его работы (психологическая час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- процесс руководства (управления) отдельным работником, рабочей группой, рабочим коллективом для достижения целей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мент – это наука об эффективном управлении предприятием; она включает в себя учение о принципах организации предприятия (юридическая часть), о стратегии его развития (идеологическая часть), о подборе персонала (социологическая часть) и способах оптимизации его работы (психологическая част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мент - процесс руководства (управления) отдельным работником, рабочей группой, рабочим коллективом для достижения цел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управления создает, систематизирует, и распространяет знания о том,  как осуществлять управленческую деятельность.  Это пограничная наука; она сочетает в себе элементы экономики, социологии, психологии, кибернетики, информатики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науки управления являются управленческие отношения, в которых проявляются одновременно экономические, политические и социальные отношения и интересы.  Они выражаются в воздействии на общество или на его отдельные элементы с целью их упорядочения., сохранения качественной специфики, совершенствования и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управления.  Учебник / Под общ. редакцией А.Л. Гапоненко, А.П. Панкрух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управления создает, систематизирует, и распространяет знания о том,  как осуществлять управленческую деятельность.  Это пограничная наука; она сочетает в себе элементы экономики, социологии, психологии, кибернетики, информатики и п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ом науки управления являются управленческие отношения, в которых проявляются одновременно экономические, политические и социальные отношения и интересы.  Они выражаются в воздействии на общество или на его отдельные элементы с целью их упорядочения., сохранения качественной специфики, совершенствования и разви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управления.  Учебник / Под общ. редакцией А.Л. Гапоненко, А.П. Панкрух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управления – это наука о наиболее общих принципах и методах управления социальными общностями, содержании и форме управленческих отношений, закономерностях их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ом ТУ являются системы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ТУ являются управленческие отношения, возникающие между субъектом и объектом управления в рамках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управления – это наука о наиболее общих принципах и методах управления социальными общностями, содержании и форме управленческих отношений, закономерностях их разви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ом ТУ являются системы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ом ТУ являются управленческие отношения, возникающие между субъектом и объектом управления в рамках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социальное – один из основных видов управления, функция которого заключается в обеспечении реализации потребностей прогрессивного развития общества и его подсистем.  (Лагуста, с. 54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вида С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управления – управляющая подсистема (орган управления, руководитель), оказывающий воздействие на объект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управления - управляемая подсистема  (общественные отношения, социальные организации, люди), воспринимающая воздействие со стороны субъекта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 между субъектом и объектом управления осуществляется с помощью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ли субъект управления на другом уровне рассматриваться как объект упра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социальное – один из основных видов управления, функция которого заключается в обеспечении реализации потребностей прогрессивного развития общества и его подсистем.  (Лагуста, с. 54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вида С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упр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орган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бъект управления – управляющая подсистема (орган управления, руководитель), оказывающий воздействие на объект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 управления - управляемая подсистема  (общественные отношения, социальные организации, люди), воспринимающая воздействие со стороны субъекта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язь между субъектом и объектом управления осуществляется с помощью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ли субъект управления на другом уровне рассматриваться как объект управл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– совокупность или группа элементов, организованная для определенной цели, в которой изменение одного затрагивает другие или все остальн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– упорядочение элементов в определенную относительно постоянную модель или взаимосвязь социальных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правления – желаемое состояние системы, которое должно быть получено в результате управленческ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организация группа людей, деятельность которых направлена на достижение общей цели.  Организация, имеющая набор взаимосвязанных целей называется слож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– совокупность или группа элементов, организованная для определенной цели, в которой изменение одного затрагивает другие или все остальные элем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а – упорядочение элементов в определенную относительно постоянную модель или взаимосвязь социальных элем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управления – желаемое состояние системы, которое должно быть получено в результате управленческого воздейств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организация группа людей, деятельность которых направлена на достижение общей цели.  Организация, имеющая набор взаимосвязанных целей называется слож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войства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Целостность - все части системы объединены, составляя в результате единое целое благодаря наличию ряда признаков: общности цели создания и функционирования (целевой), расположения (территориальный) или управления (организационны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Важным свойством любой системы является бесконечность, под которой понимается невозможность ее полного познания и всестороннего представления конечным  множеством описаний, то есть конечным числом качественных и количественных характерист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взаимозависимость структуры и среды (система формирует и проявляет свои свойства в процессе взаимодействия со средой, являясь при этом ведущим активным компонентом взаимодейств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ерархичность (каждый компонент системы в свою очередь может рассматриваться как система, а исследуемая в конкретном случае система представляет собой один из компонентов более широкой, глобальной систем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множественность описания каждой системы (в силу принципиальной сложности каждой системы ее адекватное познание требует построения множества различных моделей, каждая из которых описывает лишь определенный аспект систем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непреры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ирования и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стремление к состоянию равновесия и устойчив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стремление к дифференциации и моби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свойства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 Целостность - все части системы объединены, составляя в результате единое целое благодаря наличию ряда признаков: общности цели создания и функционирования (целевой), расположения (территориальный) или управления (организационны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 Важным свойством любой системы является бесконечность, под которой понимается невозможность ее полного познания и всестороннего представления конечным  множеством описаний, то есть конечным числом качественных и количественных характеристи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взаимозависимость структуры и среды (система формирует и проявляет свои свойства в процессе взаимодействия со средой, являясь при этом ведущим активным компонентом взаимодействия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иерархичность (каждый компонент системы в свою очередь может рассматриваться как система, а исследуемая в конкретном случае система представляет собой один из компонентов более широкой, глобальной систем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множественность описания каждой системы (в силу принципиальной сложности каждой системы ее адекватное познание требует построения множества различных моделей, каждая из которых описывает лишь определенный аспект систем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непрерыв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онирования и разви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стремление к состоянию равновесия и устойчив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стремление к дифференциации и моби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868-586A-4BEC-A57C-AD894820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6BD7-9D5D-4566-BFC7-3AFC82D3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D04D-1767-4911-A07B-9A897EF6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36B-189C-4540-B087-8F342D2D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B6AD-34BF-476A-8550-DC47403C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7215-A839-4EF1-A7D6-BD06DAA7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5C77-C81C-49ED-9A9F-E6A0ABFE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2732-0363-45AC-8F7B-7EA50C39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2D27-C834-4838-B4F1-2B5E9150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917B-4814-4496-B423-C13C907B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F35A-D2AE-4EF8-8DB7-E5F591D9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7C51-B5D7-4886-9C74-E50669E3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C768-ECD6-4BB2-955F-F4F8648B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4D9A-2E06-4591-AE01-6AE98233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7372-BC8E-443B-AF26-D31C2238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B744-0549-4A2A-8690-E31ED8EE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0047-0182-4465-8C99-8204DDDD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ADDC8-FA47-4B71-AF0C-FD2871E9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93FB1-E470-4EE9-B4C0-CD039793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ADB6A-D02C-49BE-ACFD-2B9A0598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B2D7C-3C35-45D3-BAEE-909CFAFC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1CF2C-9D3B-4FA9-A7ED-ADBCF02A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6871-32B8-43F5-AA14-6BC0CEEE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2F930-D3A8-444D-85D8-84C24CCD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F7975-1D22-41C1-A105-6A9D914C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541E9-EA00-4551-8D46-E04E2E2E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516C9-4CEA-440E-BE94-E22B51C5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66EA3-FDA8-4B19-B09F-46C99638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5FC93-531A-450E-B5B4-653FBF37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17D3B-0F7B-4429-AB1C-8164C4C5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BD81F-CC8E-4597-B9DA-84D0424D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D6EA3-F642-47A6-B0ED-97317496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31BD1-0C80-44B2-8120-04A26153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5342-7536-4555-B8EB-6AAF4123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43AB5-D644-4B71-B0E5-A646CCE2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59D15-A0E1-4A9A-911B-820ACD57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7D155-A0B5-4A6F-8304-A5346299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74BD8-A638-46DF-A5F4-D0CABA84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FD5FC-D82E-4A74-A5DA-93CA3790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EED18-F7DD-4942-8A07-BF66B085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CBF7B-7BD9-4C1B-AEA8-6710E820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B7D53-6BE1-4E97-839F-52DA01C6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BF6D3-474A-454C-9C68-AFAA6415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DD8EC-1C07-45DA-AD2F-E78EA59D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3B6D-93EC-4B5E-903C-F4656ABE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A15D9-9E2A-407F-974D-A953CBEB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63B07-C4DE-4663-AECD-224C52D0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80E4B-7A56-4C35-8F0A-7104BA29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09E0A-51C4-4887-AB34-DD022953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7BAA9-F37E-4D6E-BB9A-FEA35A7A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6BA3E-BC8E-4C76-9EED-AE2D7A5B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ABD52-D410-4565-8E86-C837E2CC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44A23-A0C6-4869-8C32-835C4F8C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528F3-C1A2-4623-B63D-9D718E8C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0CBEB-5AD1-48FA-977C-CC2144B8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F733-5468-4DE2-BF50-04E65734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E2761-F3A7-48C4-A403-EE2B8CAA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B378-823B-4F32-96B0-3AD23570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B403-3909-479E-BED0-23F24EF2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22AB-6B70-4C07-8604-41C9A207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CED6-C06F-4942-969C-F7FD2C89DDB8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6BD5-E2F5-4786-983E-D78925D8556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D8AD-C406-4446-9AC0-1AC0744F780D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3915-87AC-4394-B381-E0A2FE81FF7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1BA0-C2E5-436A-8E78-87BF65036E1A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92C0-CFF1-49E6-B97D-1A106C0166A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7257-1DD6-45AF-807E-C337D013E823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E241-CEB2-4FC7-B7CC-77AFC3EC4A1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E235-A71B-4F03-852D-895E1A9781D4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E0BB-F00C-49EB-98CD-19EBF69488A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Сущность и содержание теории управления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4360" y="429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атегориальный аппарат теории управл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2. Цели теории управл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Эволюция управленческой мысл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3851280" y="3573360"/>
            <a:ext cx="2879640" cy="23176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5805360"/>
            <a:ext cx="8183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14080" y="530280"/>
            <a:ext cx="39322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етодология управлен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это логическая схема управленческой деятельности, предполагающая взаимосвязанное понимание целей, ориентиров, а также средств и способов их достижения.  Это еще и умение видеть, распознавать, понимать, оценивать и учитывать зависимости, которые и раскрывают содержание проблем, и подсказывают пути их реш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788000" y="549000"/>
            <a:ext cx="3930480" cy="381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оненты, характеризующие содержание методологии управления: подходы, парадигмы, проблемы, приоритеты, ориентиры, критерии, альтернативы, процедуры выбора, средства и методы управления, а также ограниче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5805000"/>
            <a:ext cx="818352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14080" y="530280"/>
            <a:ext cx="39322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арадигм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греч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deigm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пример, образец) – исходная концептуальная схема, система понятий, отражающая осмысление существенных черт действительности, модель постановки проблем и их решения, выбора соответствующих методов, господствующая в научном сообществе в течение определенного исторического периода и знаменующая собой определенный этап в развитии теории. . 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756320" y="530280"/>
            <a:ext cx="3930480" cy="3186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вленческий рационализм Ф. Тейлора Функциональная дифференциация А. Файоля М. Вебера и др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овременной парадигме управления превалирует роль человеческой личности с учетом процессов глобализации и с акцентом на управление знаниями, на сетевые, партнерские принципы взаимодейств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1"/>
          <a:stretch/>
        </p:blipFill>
        <p:spPr>
          <a:xfrm>
            <a:off x="5364000" y="3645000"/>
            <a:ext cx="2376720" cy="209376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5589360"/>
            <a:ext cx="81835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14080" y="530280"/>
            <a:ext cx="393228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ли управ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учение наиболее важных аспектов управленческих отношений, возникающих в рамках управленческих взаимодейств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явление основных тенденций развития социальных процесс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56320" y="530280"/>
            <a:ext cx="393048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нозирование развития управленческих отношений в социальных общностях и организация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ка рекомендаций по совершенствованию методов управ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5805000"/>
            <a:ext cx="818352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14080" y="530280"/>
            <a:ext cx="393228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ункции управлени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знаватель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ценоч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клад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гностическ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разователь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756320" y="530280"/>
            <a:ext cx="39304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цесс управления – это совокупность управленческих действий, предпринимаемых руководителями при выполнении управленческих функций в организации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76108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1280" y="5950080"/>
            <a:ext cx="81835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14080" y="529920"/>
            <a:ext cx="3932280" cy="520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ы управления – это способы выполнения перечисленных выше функций.  Они различаются по содержанию: административные, (организационно-распорядительные), экономические и социально-психологические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756320" y="529920"/>
            <a:ext cx="3930480" cy="520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ко разграничить каждый метод не представляется возможным: они взаимно проникают друг в друга и имеют немало общих черт.  В то же время присущие им различия в способах воздействия на объекты управления позволяют рассматривать их в отд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5516640"/>
            <a:ext cx="8183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Модели управления организацией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11280" y="549360"/>
          <a:ext cx="7993080" cy="464796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втократ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Эконом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ономическое прину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ворческое учас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вторит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рек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териальное поощ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ктивиз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ральны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сональная завис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тив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верж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йлор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ономически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ономические и моральны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полн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ициа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тальное твор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sp>
        <p:nvSpPr>
          <p:cNvPr id="291" name="Місце для нижнього колонтитула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196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вле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одновременно элемент и функция организованных систем различной природы (биологических, социальных, технических и др.).  Управление присуще любому обществу или его отдельному элементу (организации, коллективу, подразделению, городу, региону).  Необходимость управления вытекает из системной природы объек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716000" y="119664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щие закономерност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явлены кибернетикой, наукой об общих принципах и методах управления сложными системами в природе, технике и обществ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лавные критерии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рациональность и целесообразн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лущенко Е.В. и др. Теория управления.  М., 1997.  С. 6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196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вл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это внутреннее свойство общественной системы, основанное на разделении труда, которое является результатом удовлетворения потребности  обмена продуктами материальной и духовно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аркс К. // Маркс К., Энгельс Ф.  Соч. 2-е изд.  Т.23.  1960. С.  907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119664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вле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функция организованных систем различной природы (биологических, социальных, технических), обеспечивающая сохранение их определенной структуры, поддержание режима активности, реализацию программы, цели деятельност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лущенко Е.В., Захарова Е.В., Тихонравов Ю.В.  Теория управления: Учебный курс.  М., 1997. С. 13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6" descr="MC900090563[1]"/>
          <p:cNvPicPr/>
          <p:nvPr/>
        </p:nvPicPr>
        <p:blipFill>
          <a:blip r:embed="rId1"/>
          <a:stretch/>
        </p:blipFill>
        <p:spPr>
          <a:xfrm>
            <a:off x="1403280" y="4365720"/>
            <a:ext cx="2664000" cy="194940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8360" y="1557360"/>
            <a:ext cx="3930480" cy="438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неджмент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это наука об эффективном управлении предприятием; она включает в себя учение о принципах организации предприятия (юридическая часть), о стратегии его развития (идеологическая часть), о подборе персонала (социологическая часть) и способах оптимизации его работы (психологическая ча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716000" y="1557360"/>
            <a:ext cx="3932280" cy="438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неджмен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процесс руководства (управления) отдельным работником, рабочей группой, рабочим коллективом для достижения целей организ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6" descr="MC900237494[1]"/>
          <p:cNvPicPr/>
          <p:nvPr/>
        </p:nvPicPr>
        <p:blipFill>
          <a:blip r:embed="rId1"/>
          <a:stretch/>
        </p:blipFill>
        <p:spPr>
          <a:xfrm>
            <a:off x="5580000" y="3645000"/>
            <a:ext cx="2573280" cy="273528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989000"/>
            <a:ext cx="4038480" cy="295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аука управлен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здает, систематизирует, и распространяет знания о том,  как осуществлять управленческую деятельность.  Это пограничная наука; она сочетает в себе элементы экономики, социологии, психологии, кибернетики, информатики и п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редметом науки управлен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ются управленческие отношения, в которых проявляются одновременно экономические, политические и социальные отношения и интересы.  Они выражаются в воздействии на общество или на его отдельные элементы с целью их упорядочения., сохранения качественной специфики, совершенствования и разви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еория управления.  Учебник / Под общ. редакцией А.Л. Гапоненко, А.П. Панкрухи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Теория управления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 это наука о наиболее общих принципах и методах управления социальными общностями, содержании и форме управленческих отношений, закономерностях их развит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бъектом Т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ются системы управленческих взаимодействи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редметом Т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ются управленческие отношения, возникающие между субъектом и объектом управления в рамках управленческих взаимодействи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5932080"/>
            <a:ext cx="81835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14080" y="529920"/>
            <a:ext cx="3932280" cy="498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правление социально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один из основных видов управления, функция которого заключается в обеспечении реализации потребностей прогрессивного развития общества и его подсистем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(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Лагуста, с. 542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и вида С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государственное управл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менеджмен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амоорганиз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убъект управл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управляющая подсистема (орган управления, руководитель), оказывающий воздействие на объект управл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ъект управл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управляемая подсистема  (общественные отношения, социальные организации, люди), воспринимающая воздействие со стороны субъекта управл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язь между субъектом и объектом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правления осуществляется с помощью информ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жет ли субъект управления на другом уровне рассматриваться как объект управления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1"/>
          <a:stretch/>
        </p:blipFill>
        <p:spPr>
          <a:xfrm>
            <a:off x="5580000" y="4508640"/>
            <a:ext cx="2232000" cy="145404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024000" cy="33112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5516640"/>
            <a:ext cx="8183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14080" y="530280"/>
            <a:ext cx="333684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истем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совокупность или группа элементов, организованная для определенной цели, в которой изменение одного затрагивает другие или все остальные элемент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руктур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упорядочение элементов в определенную относительно постоянную модель или взаимосвязь социальных элемент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076720" y="530280"/>
            <a:ext cx="36100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ель управл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желаемое состояние системы, которое должно быть получено в результате управленческого воздейст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ая организац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руппа людей, деятельность которых направлена на достижение общей цели.  Организация, имеющая набор взаимосвязанных целей называется слож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5976720"/>
            <a:ext cx="81835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сновные свойства систем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14080" y="529920"/>
            <a:ext cx="3932280" cy="527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части системы объединены, составляя в результате единое целое благодаря наличию ряда признаков: общности цели создания и функционирования (целевой), расположения (территориальный) или управления (организационный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Важным свойством любой системы являет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конеч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которой понимается невозможность ее полного познания и всестороннего представления конечным  множеством описаний, то есть конечным числом качественных и количественных характеристик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зависимость структуры и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истема формирует и проявляет свои свойства в процессе взаимодействия со средой, являясь при этом ведущим активным компонентом взаимодействия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756320" y="529920"/>
            <a:ext cx="3930480" cy="527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рархич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аждый компонент системы в свою очередь может рассматриваться как система, а исследуемая в конкретном случае система представляет собой один из компонентов более широкой, глобальной системы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енность описания каждой систе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илу принципиальной сложности каждой системы ее адекватное познание требует построения множества различных моделей, каждая из которых описывает лишь определенный аспект системы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ирования и развит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состоянию равновесия и устойчиво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дифференциации и мобиль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9:02:21Z</dcterms:created>
  <dc:creator>Хозяин</dc:creator>
  <dc:description/>
  <dc:language>en-US</dc:language>
  <cp:lastModifiedBy>LEGION</cp:lastModifiedBy>
  <dcterms:modified xsi:type="dcterms:W3CDTF">2016-01-11T10:04:33Z</dcterms:modified>
  <cp:revision>19</cp:revision>
  <dc:subject/>
  <dc:title>Сущность и содержание теории управления</dc:title>
</cp:coreProperties>
</file>